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wmf" ContentType="image/x-wmf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11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34.png" ContentType="image/png"/>
  <Override PartName="/ppt/media/image17.wmf" ContentType="image/x-wmf"/>
  <Override PartName="/ppt/media/image13.jpeg" ContentType="image/jpe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38.png" ContentType="image/png"/>
  <Override PartName="/ppt/media/image39.png" ContentType="image/png"/>
  <Override PartName="/ppt/media/image9.wmf" ContentType="image/x-wmf"/>
  <Override PartName="/ppt/media/image7.png" ContentType="image/png"/>
  <Override PartName="/ppt/media/image37.png" ContentType="image/png"/>
  <Override PartName="/ppt/media/image14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C5D-C141-4DB2-BDA5-5AA5E799E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361-CEF4-4EC9-A494-7FEB12E51C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763-B68F-4698-9FAD-DCA13232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D83-1DC9-497B-93D1-6C2EDE0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BF8-D6D2-4104-A61E-C04C9CA4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7FD-AAFF-4EDC-B5A2-C9DA070F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A1C8-541B-4752-806A-06457DD6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FAF1-C69E-4EAF-996C-2D68ECD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F6D-1532-408C-AB3C-0C399FB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AD9-79E9-4CF1-A61B-F07613E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C301-2FFA-4BFA-8F79-4DA4BC76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A88-73EE-4419-AF7E-DFD67F4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C625-E1B6-4A33-9DCD-5130188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85F-AC9C-4114-ABD6-5C411FF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7EBD-C79D-4F8D-81E4-92A9079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E344-EAB8-4C09-B38D-6BD8C74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A667-53D6-4D50-85AB-8ECFDB6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89C-7851-42A7-A86B-83258687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C66F-5E18-4F7B-9F8B-858ADC00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D8F-BFAC-48D1-9FA4-ED3C10C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241-2702-4711-9208-A96B9009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3A4-2D60-4DD6-A6E4-AB4E182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30E-1F74-4175-BA57-1CCF1998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2B9-FC78-4456-B72F-96FD514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087-0EC3-45A2-AF0C-02182BCE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08E-3BF3-4E82-8350-1D8C84C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14440" indent="-252360">
              <a:spcBef>
                <a:spcPts val="15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2" marL="725400" indent="-2109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947880" indent="-220680">
              <a:spcBef>
                <a:spcPts val="15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158840" indent="-2109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5" marL="1158840" indent="-210960">
              <a:spcBef>
                <a:spcPts val="1500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6" marL="1158840" indent="-210960">
              <a:spcBef>
                <a:spcPts val="1500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7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C08C-40EC-456B-AEC4-626FE7C857B2}" type="slidenum">
              <a:rPr b="0" lang="en-US" sz="27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514440" indent="-252360">
              <a:spcBef>
                <a:spcPts val="15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2" marL="725400" indent="-2109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947880" indent="-220680">
              <a:spcBef>
                <a:spcPts val="15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158840" indent="-2109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5" marL="1158840" indent="-210960">
              <a:spcBef>
                <a:spcPts val="1500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6" marL="1158840" indent="-210960">
              <a:spcBef>
                <a:spcPts val="1500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7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458-0D08-42CC-A7F1-D641094BF1FB}" type="slidenum">
              <a:rPr b="0" lang="en-US" sz="27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kingmathmagic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200160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halkboard"/>
              </a:rPr>
              <a:t>FRACTIONS!</a:t>
            </a:r>
            <a:br>
              <a:rPr sz="6000"/>
            </a:br>
            <a:r>
              <a:rPr b="1" lang="en-US" sz="3200" spc="-1" strike="noStrike">
                <a:solidFill>
                  <a:srgbClr val="2c7c9f"/>
                </a:solidFill>
                <a:latin typeface="Chalkboard"/>
              </a:rPr>
              <a:t>Kentucky Center for Mathematics</a:t>
            </a:r>
            <a:br>
              <a:rPr sz="3200"/>
            </a:br>
            <a:r>
              <a:rPr b="1" lang="en-US" sz="3200" spc="-1" strike="noStrike">
                <a:solidFill>
                  <a:srgbClr val="2c7c9f"/>
                </a:solidFill>
                <a:latin typeface="Chalkboard"/>
              </a:rPr>
              <a:t>2015 Conferenc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1"/>
          <a:srcRect l="0" t="9496" r="0" b="9496"/>
          <a:stretch/>
        </p:blipFill>
        <p:spPr>
          <a:xfrm>
            <a:off x="2685960" y="3649680"/>
            <a:ext cx="3888000" cy="247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Footer Placeholder 3"/>
          <p:cNvSpPr/>
          <p:nvPr/>
        </p:nvSpPr>
        <p:spPr>
          <a:xfrm>
            <a:off x="417600" y="6427800"/>
            <a:ext cx="484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News Gothic MT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  MAKING MATH MAGIC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-214200" y="712800"/>
            <a:ext cx="58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ekton Pro Ext"/>
                <a:ea typeface="MS PGothic"/>
              </a:rPr>
              <a:t>ENGAGE in…</a:t>
            </a:r>
            <a:endParaRPr b="0" lang="en-US" sz="4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7840" y="729720"/>
            <a:ext cx="70470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0840" indent="-240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News Gothic MT"/>
              </a:rPr>
              <a:t>For meaning-making, students need: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240840" indent="-240840">
              <a:lnSpc>
                <a:spcPct val="90000"/>
              </a:lnSpc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understanding of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benchmar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number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40840" indent="-240840">
              <a:lnSpc>
                <a:spcPct val="90000"/>
              </a:lnSpc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bility to represent fractions with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different mode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40840" indent="-240840">
              <a:lnSpc>
                <a:spcPct val="90000"/>
              </a:lnSpc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understanding of how to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compos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decompos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fractions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with unit frac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40840" indent="-240840">
              <a:lnSpc>
                <a:spcPct val="90000"/>
              </a:lnSpc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understanding of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equivalenc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40840" indent="-240840">
              <a:lnSpc>
                <a:spcPct val="90000"/>
              </a:lnSpc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20680" y="634824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32" name="Picture 2" descr="C:\Users\Rhonda\AppData\Local\Microsoft\Windows\Temporary Internet Files\Content.IE5\VRDQVS3K\MC900445118[1].wmf"/>
          <p:cNvPicPr/>
          <p:nvPr/>
        </p:nvPicPr>
        <p:blipFill>
          <a:blip r:embed="rId1"/>
          <a:srcRect l="0" t="0" r="0" b="46310"/>
          <a:stretch/>
        </p:blipFill>
        <p:spPr>
          <a:xfrm>
            <a:off x="6889680" y="230040"/>
            <a:ext cx="19731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88760" y="333000"/>
            <a:ext cx="76215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News Gothic MT"/>
              </a:rPr>
              <a:t>Addition and Subtraction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Subtraction is more than “take away.”  It can be the difference between two numbers or the distance between them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</a:t>
            </a: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What does it mean to    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          </a:t>
            </a: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add/subtract fractions?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 </a:t>
            </a: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Why do we have to find a 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lvl="3" marL="824400" indent="-82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          </a:t>
            </a:r>
            <a:r>
              <a:rPr b="1" lang="en-US" sz="3300" spc="-1" strike="noStrike">
                <a:solidFill>
                  <a:srgbClr val="7030a0"/>
                </a:solidFill>
                <a:latin typeface="News Gothic MT"/>
              </a:rPr>
              <a:t>common denominator?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227880" indent="-2278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10960" y="6369120"/>
            <a:ext cx="2229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2960" y="-360"/>
            <a:ext cx="79725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32920" indent="-232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ff"/>
                </a:solidFill>
                <a:latin typeface="News Gothic MT"/>
              </a:rPr>
              <a:t>What are the “rules” for adding: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Whole numbers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Decimals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Fractions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Variable expressions in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    </a:t>
            </a: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algebra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Radicals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lvl="3" marL="843480" indent="-8434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News Gothic MT"/>
              </a:rPr>
              <a:t>Complex numbers 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232920" indent="-232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369720" y="6310440"/>
            <a:ext cx="2229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440" y="5698800"/>
            <a:ext cx="65246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57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00000"/>
                </a:solidFill>
                <a:latin typeface="News Gothic MT"/>
              </a:rPr>
              <a:t>1 Rule:</a:t>
            </a: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9900ff"/>
                </a:solidFill>
                <a:latin typeface="News Gothic MT"/>
              </a:rPr>
              <a:t>YOU CAN ONLY ADD THINGS THAT HAVE A </a:t>
            </a:r>
            <a:r>
              <a:rPr b="1" i="1" lang="en-US" sz="4500" spc="-1" strike="noStrike">
                <a:solidFill>
                  <a:srgbClr val="000000"/>
                </a:solidFill>
                <a:latin typeface="News Gothic MT"/>
              </a:rPr>
              <a:t>COMMON NAME</a:t>
            </a:r>
            <a:r>
              <a:rPr b="1" i="1" lang="en-US" sz="4500" spc="-1" strike="noStrike">
                <a:solidFill>
                  <a:srgbClr val="9900ff"/>
                </a:solidFill>
                <a:latin typeface="News Gothic MT"/>
              </a:rPr>
              <a:t>!!!</a:t>
            </a:r>
            <a:br>
              <a:rPr sz="3100"/>
            </a:br>
            <a:endParaRPr b="0" lang="en-US" sz="4500" spc="-1" strike="noStrike">
              <a:solidFill>
                <a:srgbClr val="2c7c9f"/>
              </a:solidFill>
              <a:latin typeface="News Gothic MT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3932640" y="-355680"/>
            <a:ext cx="4192920" cy="3564360"/>
            <a:chOff x="3932640" y="-355680"/>
            <a:chExt cx="4192920" cy="3564360"/>
          </a:xfrm>
        </p:grpSpPr>
        <p:pic>
          <p:nvPicPr>
            <p:cNvPr id="139" name="Picture 1" descr=""/>
            <p:cNvPicPr/>
            <p:nvPr/>
          </p:nvPicPr>
          <p:blipFill>
            <a:blip r:embed="rId1"/>
            <a:stretch/>
          </p:blipFill>
          <p:spPr>
            <a:xfrm rot="1348200">
              <a:off x="4254120" y="231840"/>
              <a:ext cx="35496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"/>
            <p:cNvSpPr/>
            <p:nvPr/>
          </p:nvSpPr>
          <p:spPr>
            <a:xfrm rot="19953600">
              <a:off x="5665680" y="753480"/>
              <a:ext cx="952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s Gothic MT"/>
                </a:rPr>
                <a:t>MATH</a:t>
              </a:r>
              <a:endParaRPr b="0" lang="en-US" sz="1600" spc="-1" strike="noStrike">
                <a:solidFill>
                  <a:srgbClr val="000000"/>
                </a:solidFill>
                <a:latin typeface="News Gothic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News Gothic MT"/>
                </a:rPr>
                <a:t>RULES</a:t>
              </a:r>
              <a:endParaRPr b="0" lang="en-US" sz="16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1" name="TextBox 7"/>
          <p:cNvSpPr/>
          <p:nvPr/>
        </p:nvSpPr>
        <p:spPr>
          <a:xfrm>
            <a:off x="369720" y="6310440"/>
            <a:ext cx="2229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822640"/>
            <a:ext cx="8345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We are not going to spend as much time with the preliminary lessons for Addition and Subtraction because then we </a:t>
            </a:r>
            <a:r>
              <a:rPr b="1" i="1" lang="en-US" sz="2800" spc="-1" strike="noStrike">
                <a:solidFill>
                  <a:srgbClr val="2c7c9f"/>
                </a:solidFill>
                <a:latin typeface="News Gothic MT"/>
              </a:rPr>
              <a:t>never</a:t>
            </a: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 get to Multiplication and Division…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However, there are some key points for early lessons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- Students have to spend time </a:t>
            </a:r>
            <a:r>
              <a:rPr b="1" lang="en-US" sz="2800" spc="-1" strike="noStrike">
                <a:solidFill>
                  <a:srgbClr val="7030a0"/>
                </a:solidFill>
                <a:latin typeface="News Gothic MT"/>
              </a:rPr>
              <a:t>COUNTING and COMPOSING/DECOMPOSING FRACTIONS </a:t>
            </a: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around </a:t>
            </a:r>
            <a:r>
              <a:rPr b="1" lang="en-US" sz="2800" spc="-1" strike="noStrike">
                <a:solidFill>
                  <a:srgbClr val="7030a0"/>
                </a:solidFill>
                <a:latin typeface="News Gothic MT"/>
              </a:rPr>
              <a:t>UNIT FRACTIONS </a:t>
            </a: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before they are asked to do any computatio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2860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7"/>
          <p:cNvSpPr/>
          <p:nvPr/>
        </p:nvSpPr>
        <p:spPr>
          <a:xfrm>
            <a:off x="22860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673200" y="534960"/>
            <a:ext cx="7772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ws Gothic MT"/>
              </a:rPr>
              <a:t>Remember……</a:t>
            </a:r>
            <a:endParaRPr b="0" lang="en-US" sz="4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The denominator is the “name” of the fraction pieces.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The numerator is the “counter” of these pieces.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7"/>
          <p:cNvSpPr/>
          <p:nvPr/>
        </p:nvSpPr>
        <p:spPr>
          <a:xfrm>
            <a:off x="22860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8380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count the four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2428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-fourths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7238880" y="2133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143000" y="1828800"/>
            <a:ext cx="1523880" cy="53352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895480" y="1828800"/>
            <a:ext cx="1524240" cy="53352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4724280" y="1828800"/>
            <a:ext cx="1524240" cy="53352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403200" y="32288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How might I arrange these pieces?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295280" y="4038480"/>
            <a:ext cx="1524240" cy="53352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648320" y="3962520"/>
            <a:ext cx="1523880" cy="53316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6553080" y="3962520"/>
            <a:ext cx="1524240" cy="533160"/>
          </a:xfrm>
          <a:prstGeom prst="rect">
            <a:avLst/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2971800" y="518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4800600" y="518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6400800" y="518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3886200" y="5410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5562720" y="5410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391680" y="182520"/>
            <a:ext cx="48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ounting the pieces (part 1)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7"/>
          <p:cNvSpPr/>
          <p:nvPr/>
        </p:nvSpPr>
        <p:spPr>
          <a:xfrm>
            <a:off x="304920" y="6269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06668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six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447920" y="434340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News Gothic MT"/>
              </a:rPr>
              <a:t>Write at least 5 math sentences using these sixths.  Be prepared to share!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3657600" y="114300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5"/>
          <a:stretch/>
        </p:blipFill>
        <p:spPr>
          <a:xfrm>
            <a:off x="5791320" y="114300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6"/>
          <a:stretch/>
        </p:blipFill>
        <p:spPr>
          <a:xfrm>
            <a:off x="6705720" y="114300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7"/>
          <a:stretch/>
        </p:blipFill>
        <p:spPr>
          <a:xfrm>
            <a:off x="990720" y="243828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8"/>
          <a:stretch/>
        </p:blipFill>
        <p:spPr>
          <a:xfrm>
            <a:off x="1981080" y="228600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9"/>
          <a:stretch/>
        </p:blipFill>
        <p:spPr>
          <a:xfrm>
            <a:off x="3124080" y="236232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10"/>
          <a:stretch/>
        </p:blipFill>
        <p:spPr>
          <a:xfrm>
            <a:off x="4267080" y="228600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11"/>
          <a:stretch/>
        </p:blipFill>
        <p:spPr>
          <a:xfrm>
            <a:off x="5562720" y="2286000"/>
            <a:ext cx="1157040" cy="109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12"/>
          <a:stretch/>
        </p:blipFill>
        <p:spPr>
          <a:xfrm>
            <a:off x="6553080" y="228600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13"/>
          <a:stretch/>
        </p:blipFill>
        <p:spPr>
          <a:xfrm>
            <a:off x="7543800" y="2209680"/>
            <a:ext cx="1157400" cy="10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14"/>
          <a:stretch/>
        </p:blipFill>
        <p:spPr>
          <a:xfrm>
            <a:off x="7696080" y="914400"/>
            <a:ext cx="1157400" cy="10969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3"/>
          <p:cNvSpPr/>
          <p:nvPr/>
        </p:nvSpPr>
        <p:spPr>
          <a:xfrm>
            <a:off x="7467480" y="3124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6520" y="769680"/>
            <a:ext cx="82389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7c9f"/>
                </a:solidFill>
                <a:latin typeface="News Gothic MT"/>
              </a:rPr>
              <a:t>And Later….</a:t>
            </a:r>
            <a:r>
              <a:rPr b="1" i="1" lang="en-US" sz="2800" spc="-1" strike="noStrike">
                <a:solidFill>
                  <a:srgbClr val="2c7c9f"/>
                </a:solidFill>
                <a:latin typeface="News Gothic MT"/>
              </a:rPr>
              <a:t>How can I help students realize the need for a common denominator?</a:t>
            </a:r>
            <a:br>
              <a:rPr sz="2800"/>
            </a:b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08120" y="1079640"/>
            <a:ext cx="80373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33720" indent="-333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News Gothic MT"/>
              </a:rPr>
              <a:t>Start with a model!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Use the fraction circle model to add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2/6 + 1/6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What’s the name for the sum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Use the fraction circle model to add              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1/3 + 1/6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What’s the name for the sum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33720" indent="-333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22860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0720" y="306360"/>
            <a:ext cx="797256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News Gothic MT"/>
              </a:rPr>
              <a:t>Repeat with many similar exampl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News Gothic MT"/>
              </a:rPr>
              <a:t>Use the circle model to add 1/4 + 1/2.</a:t>
            </a:r>
            <a:endParaRPr b="0" lang="en-US" sz="3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News Gothic MT"/>
              </a:rPr>
              <a:t>What’s the name for the sum?</a:t>
            </a:r>
            <a:endParaRPr b="0" lang="en-US" sz="3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     </a:t>
            </a: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What are some of the  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         </a:t>
            </a: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limitations for using       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              </a:t>
            </a: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fraction circles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    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for adding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796080" y="62848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473040" y="4041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rcRect l="48995" t="0" r="0" b="50112"/>
          <a:stretch/>
        </p:blipFill>
        <p:spPr>
          <a:xfrm>
            <a:off x="7624800" y="306360"/>
            <a:ext cx="10684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94200" y="1854360"/>
            <a:ext cx="1620720" cy="195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Box 2"/>
          <p:cNvSpPr/>
          <p:nvPr/>
        </p:nvSpPr>
        <p:spPr>
          <a:xfrm>
            <a:off x="2143080" y="4383000"/>
            <a:ext cx="5232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MS PGothic"/>
              </a:rPr>
              <a:t>Ann Booth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ctober 13, 1938 – February 8, 2015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27040" y="1312920"/>
            <a:ext cx="2800440" cy="38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5"/>
          <p:cNvSpPr/>
          <p:nvPr/>
        </p:nvSpPr>
        <p:spPr>
          <a:xfrm>
            <a:off x="527040" y="453960"/>
            <a:ext cx="52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MS PGothic"/>
              </a:rPr>
              <a:t>In loving memory…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5720" y="598968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Founding partner of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MS PGothic"/>
              </a:rPr>
              <a:t>M</a:t>
            </a:r>
            <a:r>
              <a:rPr b="0" lang="en-US" sz="2800" spc="-1" strike="noStrike" baseline="42000">
                <a:solidFill>
                  <a:srgbClr val="000000"/>
                </a:solidFill>
                <a:latin typeface="Lucida Calligraphy"/>
                <a:ea typeface="MS PGothic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MS PGothic"/>
              </a:rPr>
              <a:t> - Making Math Magic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3"/>
          <a:stretch/>
        </p:blipFill>
        <p:spPr>
          <a:xfrm>
            <a:off x="5950080" y="1457280"/>
            <a:ext cx="2859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382680" y="632304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89" name="Content Placeholder 2"/>
          <p:cNvSpPr/>
          <p:nvPr/>
        </p:nvSpPr>
        <p:spPr>
          <a:xfrm>
            <a:off x="382680" y="390600"/>
            <a:ext cx="84232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News Gothic MT"/>
              </a:rPr>
              <a:t>Remember the Brownie Models…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Sadye’s mom brought brownies to school in a pan.  She had cut the pan of brownies into fourths.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Audrey’s mom also brought brownies to school.  Her pan was the same size as Sayde’s mom’s pan.  But Audrey’s mom had cut the pan of brownies into thirds.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What can we do to make sure it’s fair?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08520" y="2014560"/>
          <a:ext cx="1314360" cy="857160"/>
        </p:xfrm>
        <a:graphic>
          <a:graphicData uri="http://schemas.openxmlformats.org/drawingml/2006/table">
            <a:tbl>
              <a:tblPr/>
              <a:tblGrid>
                <a:gridCol w="328680"/>
                <a:gridCol w="328320"/>
                <a:gridCol w="328680"/>
                <a:gridCol w="328680"/>
              </a:tblGrid>
              <a:tr h="8571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940200" y="4294080"/>
          <a:ext cx="1314360" cy="793800"/>
        </p:xfrm>
        <a:graphic>
          <a:graphicData uri="http://schemas.openxmlformats.org/drawingml/2006/table">
            <a:tbl>
              <a:tblPr/>
              <a:tblGrid>
                <a:gridCol w="1314360"/>
              </a:tblGrid>
              <a:tr h="220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72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58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The brownie party (continued)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1280" indent="-2512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The class ate 3-fourths of the pan of brownies that Sayde’s mom brough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51280" indent="-2512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They ate 2-thirds of the pan of brownies that Audrey’s mom brough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51280" indent="-2512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Did the class eat less than or more than a pan of brownies? Describe this with fraction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51280" indent="-2512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Were there brownies left? If so, what fractional part of a pan of brownies was left over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7"/>
          <p:cNvSpPr/>
          <p:nvPr/>
        </p:nvSpPr>
        <p:spPr>
          <a:xfrm>
            <a:off x="116676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0" y="38088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Sadye’s mom -fourths.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76520" y="1066680"/>
          <a:ext cx="1752480" cy="1143000"/>
        </p:xfrm>
        <a:graphic>
          <a:graphicData uri="http://schemas.openxmlformats.org/drawingml/2006/table">
            <a:tbl>
              <a:tblPr/>
              <a:tblGrid>
                <a:gridCol w="438120"/>
                <a:gridCol w="438120"/>
                <a:gridCol w="438120"/>
                <a:gridCol w="438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019920" y="1066680"/>
          <a:ext cx="1752480" cy="118908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0"/>
          <p:cNvSpPr/>
          <p:nvPr/>
        </p:nvSpPr>
        <p:spPr>
          <a:xfrm>
            <a:off x="1676520" y="1447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9" name="Straight Connector 11"/>
          <p:cNvSpPr/>
          <p:nvPr/>
        </p:nvSpPr>
        <p:spPr>
          <a:xfrm>
            <a:off x="1676520" y="1828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0" name="Straight Connector 13"/>
          <p:cNvSpPr/>
          <p:nvPr/>
        </p:nvSpPr>
        <p:spPr>
          <a:xfrm>
            <a:off x="6885000" y="106668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1" name="Straight Connector 14"/>
          <p:cNvSpPr/>
          <p:nvPr/>
        </p:nvSpPr>
        <p:spPr>
          <a:xfrm>
            <a:off x="6431040" y="106668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2" name="Straight Connector 16"/>
          <p:cNvSpPr/>
          <p:nvPr/>
        </p:nvSpPr>
        <p:spPr>
          <a:xfrm>
            <a:off x="7353360" y="104292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876920" y="3762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Audrey’s mom - thirds.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3429000"/>
          <a:ext cx="1752840" cy="1143000"/>
        </p:xfrm>
        <a:graphic>
          <a:graphicData uri="http://schemas.openxmlformats.org/drawingml/2006/table">
            <a:tbl>
              <a:tblPr/>
              <a:tblGrid>
                <a:gridCol w="438120"/>
                <a:gridCol w="438480"/>
                <a:gridCol w="438120"/>
                <a:gridCol w="438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943600" y="3429000"/>
          <a:ext cx="1752480" cy="118908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Straight Connector 19"/>
          <p:cNvSpPr/>
          <p:nvPr/>
        </p:nvSpPr>
        <p:spPr>
          <a:xfrm>
            <a:off x="1752480" y="38098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7" name="Straight Connector 20"/>
          <p:cNvSpPr/>
          <p:nvPr/>
        </p:nvSpPr>
        <p:spPr>
          <a:xfrm>
            <a:off x="1752480" y="41911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8" name="Straight Connector 21"/>
          <p:cNvSpPr/>
          <p:nvPr/>
        </p:nvSpPr>
        <p:spPr>
          <a:xfrm>
            <a:off x="6831000" y="345276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9" name="Straight Connector 22"/>
          <p:cNvSpPr/>
          <p:nvPr/>
        </p:nvSpPr>
        <p:spPr>
          <a:xfrm>
            <a:off x="6377040" y="345276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0" name="Straight Connector 23"/>
          <p:cNvSpPr/>
          <p:nvPr/>
        </p:nvSpPr>
        <p:spPr>
          <a:xfrm>
            <a:off x="7299360" y="3429000"/>
            <a:ext cx="0" cy="11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1" name="TextBox 25"/>
          <p:cNvSpPr/>
          <p:nvPr/>
        </p:nvSpPr>
        <p:spPr>
          <a:xfrm>
            <a:off x="2133720" y="2209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2" name="TextBox 26"/>
          <p:cNvSpPr/>
          <p:nvPr/>
        </p:nvSpPr>
        <p:spPr>
          <a:xfrm>
            <a:off x="6477120" y="2286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2286000" y="47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4" name="TextBox 28"/>
          <p:cNvSpPr/>
          <p:nvPr/>
        </p:nvSpPr>
        <p:spPr>
          <a:xfrm>
            <a:off x="5943600" y="48006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News Gothic MT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411480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News Gothic MT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7"/>
          <p:cNvSpPr/>
          <p:nvPr/>
        </p:nvSpPr>
        <p:spPr>
          <a:xfrm>
            <a:off x="382680" y="632304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382680" y="339840"/>
            <a:ext cx="84232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News Gothic MT"/>
              </a:rPr>
              <a:t>Transitioning to a number line…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Sadye’s mom brought brownies to school in a pan.  She had cut the pan of brownies into fourths.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Audrey’s mom also brought brownies to school.  Her pan was the same size as Sayde’s mom’s pan.  But Audrey’s mom had cut the pan of brownies into thirds.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What can we do to make sure it’s fair?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65520" y="2398680"/>
          <a:ext cx="3657600" cy="371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765520" y="4940280"/>
          <a:ext cx="3657600" cy="371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7"/>
          <p:cNvSpPr/>
          <p:nvPr/>
        </p:nvSpPr>
        <p:spPr>
          <a:xfrm>
            <a:off x="382680" y="632304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382680" y="557280"/>
            <a:ext cx="84232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Transitioning to a Number Line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Sadye’s mom brought brownies to school in a pan.  She had cut the pan of brownies into fourths.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Audrey’s mom also brought brownies to school.  Her pan was the same size as Sayde’s mom’s pan.  But Audrey’s mom had cut the pan of brownies into thirds.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What can we do to make sure it’s fair?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789280" y="2244600"/>
          <a:ext cx="3657600" cy="371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738520" y="4525920"/>
          <a:ext cx="3657600" cy="371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382680" y="632304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382680" y="390600"/>
            <a:ext cx="8423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What can we do to make sure it’s fair?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801880" y="1841400"/>
          <a:ext cx="3657600" cy="371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822400" y="2863800"/>
          <a:ext cx="3657600" cy="371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Box 3"/>
          <p:cNvSpPr/>
          <p:nvPr/>
        </p:nvSpPr>
        <p:spPr>
          <a:xfrm>
            <a:off x="2611440" y="2222640"/>
            <a:ext cx="40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0                              1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2611440" y="3300480"/>
            <a:ext cx="40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0                              1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822400" y="4311720"/>
          <a:ext cx="3657600" cy="371520"/>
        </p:xfrm>
        <a:graphic>
          <a:graphicData uri="http://schemas.openxmlformats.org/drawingml/2006/table">
            <a:tbl>
              <a:tblPr/>
              <a:tblGrid>
                <a:gridCol w="914400"/>
                <a:gridCol w="304920"/>
                <a:gridCol w="609480"/>
                <a:gridCol w="304920"/>
                <a:gridCol w="609480"/>
                <a:gridCol w="304920"/>
                <a:gridCol w="609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c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Box 10"/>
          <p:cNvSpPr/>
          <p:nvPr/>
        </p:nvSpPr>
        <p:spPr>
          <a:xfrm>
            <a:off x="2678040" y="4811760"/>
            <a:ext cx="40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0                              1 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2" name="Straight Connector 12"/>
          <p:cNvSpPr/>
          <p:nvPr/>
        </p:nvSpPr>
        <p:spPr>
          <a:xfrm>
            <a:off x="3114720" y="4305240"/>
            <a:ext cx="9360" cy="34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3" name="Straight Connector 14"/>
          <p:cNvSpPr/>
          <p:nvPr/>
        </p:nvSpPr>
        <p:spPr>
          <a:xfrm>
            <a:off x="3409920" y="4305240"/>
            <a:ext cx="9720" cy="34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4" name="Straight Connector 15"/>
          <p:cNvSpPr/>
          <p:nvPr/>
        </p:nvSpPr>
        <p:spPr>
          <a:xfrm>
            <a:off x="4343400" y="4305240"/>
            <a:ext cx="9360" cy="34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6167520" y="4305240"/>
            <a:ext cx="12600" cy="34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6" name="Straight Connector 18"/>
          <p:cNvSpPr/>
          <p:nvPr/>
        </p:nvSpPr>
        <p:spPr>
          <a:xfrm>
            <a:off x="5246640" y="4305240"/>
            <a:ext cx="9720" cy="34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457200" y="194472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</a:rPr>
              <a:t>If we put the two number lines together, students can then approximate making the same size pieces on the number line….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908760" y="1576440"/>
            <a:ext cx="189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Our 2 number line models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41440" y="263160"/>
            <a:ext cx="86025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c7c9f"/>
                </a:solidFill>
                <a:latin typeface="News Gothic MT"/>
              </a:rPr>
              <a:t>Adding on an open number line….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69920" y="6381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41" name="TextBox 4" descr=""/>
          <p:cNvPicPr/>
          <p:nvPr/>
        </p:nvPicPr>
        <p:blipFill>
          <a:blip r:embed="rId1"/>
          <a:stretch/>
        </p:blipFill>
        <p:spPr>
          <a:xfrm>
            <a:off x="1133640" y="1122480"/>
            <a:ext cx="7029360" cy="365112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6"/>
          <p:cNvCxnSpPr/>
          <p:nvPr/>
        </p:nvCxnSpPr>
        <p:spPr>
          <a:xfrm>
            <a:off x="2687760" y="5630400"/>
            <a:ext cx="4115520" cy="25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440" y="236160"/>
            <a:ext cx="86025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c7c9f"/>
                </a:solidFill>
                <a:latin typeface="News Gothic MT"/>
              </a:rPr>
              <a:t>What if….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169920" y="6381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785880" y="1763640"/>
            <a:ext cx="76406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Baylon needs one board that is 4 ¾ feet long and another board that is 2 ½ feet long.  </a:t>
            </a: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 wants to buy a board that is long enough to get both of these boards from.  How long does this board need to be? 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cxnSp>
        <p:nvCxnSpPr>
          <p:cNvPr id="246" name="Straight Arrow Connector 6"/>
          <p:cNvCxnSpPr/>
          <p:nvPr/>
        </p:nvCxnSpPr>
        <p:spPr>
          <a:xfrm>
            <a:off x="2786040" y="4811760"/>
            <a:ext cx="4115520" cy="2160"/>
          </a:xfrm>
          <a:prstGeom prst="straightConnector1">
            <a:avLst/>
          </a:prstGeom>
          <a:ln w="7632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8120" y="693360"/>
            <a:ext cx="8190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Adding/Subtracting on an Open Number Line….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254160" y="63752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733320" y="1674720"/>
            <a:ext cx="811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JoAnna has a bracelet that is 4 ¾ inches long.  She really needs a bracelet that is 6 inches long. How much length does she need to add to her bracelet to make it 6 inches long?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cxnSp>
        <p:nvCxnSpPr>
          <p:cNvPr id="250" name="Straight Arrow Connector 6"/>
          <p:cNvCxnSpPr/>
          <p:nvPr/>
        </p:nvCxnSpPr>
        <p:spPr>
          <a:xfrm>
            <a:off x="3370320" y="5311800"/>
            <a:ext cx="4115520" cy="2160"/>
          </a:xfrm>
          <a:prstGeom prst="straightConnector1">
            <a:avLst/>
          </a:prstGeom>
          <a:ln w="7632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Adding/Subtracting on an open number line….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76120" y="628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cxnSp>
        <p:nvCxnSpPr>
          <p:cNvPr id="253" name="Straight Arrow Connector 6"/>
          <p:cNvCxnSpPr/>
          <p:nvPr/>
        </p:nvCxnSpPr>
        <p:spPr>
          <a:xfrm>
            <a:off x="2285640" y="5409720"/>
            <a:ext cx="6096600" cy="10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  <p:sp>
        <p:nvSpPr>
          <p:cNvPr id="254" name="Rectangle 7"/>
          <p:cNvSpPr/>
          <p:nvPr/>
        </p:nvSpPr>
        <p:spPr>
          <a:xfrm>
            <a:off x="882720" y="165744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s Gothic MT"/>
              </a:rPr>
              <a:t>Sam ran      of  a mile on Saturday.   He ran      of a mile on Sunday.  Did he run a mile over the weekend?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2949480" y="156204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News Gothic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4921200" y="235116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News Gothic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57" name="Picture 3" descr="C:\Users\vonda\AppData\Local\Microsoft\Windows\Temporary Internet Files\Content.IE5\00VWPAY7\MC900298673[1].wmf"/>
          <p:cNvPicPr/>
          <p:nvPr/>
        </p:nvPicPr>
        <p:blipFill>
          <a:blip r:embed="rId1"/>
          <a:stretch/>
        </p:blipFill>
        <p:spPr>
          <a:xfrm>
            <a:off x="6280200" y="898560"/>
            <a:ext cx="15066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6160" y="410652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Presented by </a:t>
            </a:r>
            <a:br>
              <a:rPr sz="3600"/>
            </a:br>
            <a:r>
              <a:rPr b="1" i="1" lang="en-US" sz="3400" spc="-1" strike="noStrike">
                <a:solidFill>
                  <a:srgbClr val="000000"/>
                </a:solidFill>
                <a:latin typeface="News Gothic MT"/>
              </a:rPr>
              <a:t>Making Math Magic</a:t>
            </a:r>
            <a:br>
              <a:rPr sz="3400"/>
            </a:br>
            <a:r>
              <a:rPr b="1" i="1" lang="en-US" sz="2800" spc="-1" strike="noStrike">
                <a:solidFill>
                  <a:srgbClr val="184b5b"/>
                </a:solidFill>
                <a:latin typeface="News Gothic MT"/>
              </a:rPr>
              <a:t>“Four Teacher For Teachers”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32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www.makingmathmagic.com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2" name="Picture 6" descr="hat.jpg"/>
          <p:cNvPicPr/>
          <p:nvPr/>
        </p:nvPicPr>
        <p:blipFill>
          <a:blip r:embed="rId2"/>
          <a:stretch/>
        </p:blipFill>
        <p:spPr>
          <a:xfrm>
            <a:off x="3576600" y="2065320"/>
            <a:ext cx="210996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Footer Placeholder 3"/>
          <p:cNvSpPr/>
          <p:nvPr/>
        </p:nvSpPr>
        <p:spPr>
          <a:xfrm>
            <a:off x="227160" y="6245280"/>
            <a:ext cx="484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News Gothic MT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  MAKING MATH MAGIC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0" y="4611600"/>
            <a:ext cx="9055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Rhonda Burns                  Vonda Stamm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               </a:t>
            </a:r>
            <a:r>
              <a:rPr b="0" lang="en-US" sz="2000" spc="-1" strike="noStrike">
                <a:solidFill>
                  <a:srgbClr val="7030a0"/>
                </a:solidFill>
                <a:latin typeface="News Gothic MT"/>
                <a:ea typeface="MS PGothic"/>
              </a:rPr>
              <a:t>allenrhonda@bellsouth.net             stamm@mrtc.com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Ann Booth                         Tami Pickett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  <a:ea typeface="MS PGothic"/>
              </a:rPr>
              <a:t>                   </a:t>
            </a: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ea typeface="MS PGothic"/>
              </a:rPr>
              <a:t>abooth@kih.net</a:t>
            </a:r>
            <a:r>
              <a:rPr b="1" lang="en-US" sz="2000" spc="-1" strike="noStrike">
                <a:solidFill>
                  <a:srgbClr val="000000"/>
                </a:solidFill>
                <a:latin typeface="News Gothic MT"/>
                <a:ea typeface="MS PGothic"/>
              </a:rPr>
              <a:t>              </a:t>
            </a: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ea typeface="MS PGothic"/>
              </a:rPr>
              <a:t>tamipickett.mcubed@Windstream.net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349200" y="6292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8840" y="18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News Gothic MT"/>
              </a:rPr>
              <a:t>Multiplying and Dividing</a:t>
            </a:r>
            <a:endParaRPr b="0" lang="en-US" sz="5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682560" y="4100400"/>
            <a:ext cx="82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News Gothic MT"/>
              </a:rPr>
              <a:t>Unfortunately, Fraction Computation instruction usually begins with a list of rules to memorize and “apply”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14080" y="1323720"/>
            <a:ext cx="713556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Remember this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5959"/>
                </a:solidFill>
                <a:latin typeface="News Gothic MT"/>
              </a:rPr>
              <a:t>‘</a:t>
            </a:r>
            <a:r>
              <a:rPr b="1" i="1" lang="en-US" sz="3600" spc="-1" strike="noStrike">
                <a:solidFill>
                  <a:srgbClr val="595959"/>
                </a:solidFill>
                <a:latin typeface="News Gothic MT"/>
              </a:rPr>
              <a:t>Tis not yours to wonder why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5959"/>
                </a:solidFill>
                <a:latin typeface="News Gothic MT"/>
              </a:rPr>
              <a:t>‘</a:t>
            </a:r>
            <a:r>
              <a:rPr b="1" i="1" lang="en-US" sz="3600" spc="-1" strike="noStrike">
                <a:solidFill>
                  <a:srgbClr val="595959"/>
                </a:solidFill>
                <a:latin typeface="News Gothic MT"/>
              </a:rPr>
              <a:t>Tis only yours to invert and multiply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7121520" y="1913040"/>
            <a:ext cx="16095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3520" y="-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344520" y="6210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601560" y="1789200"/>
            <a:ext cx="809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Four girls from the soccer team are getting together for a sleepover. They have ordered 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5 pizzas for the 4 girls.  How much pizza can each girl have?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66" name="Picture 3" descr="C:\Users\vonda\AppData\Local\Microsoft\Windows\Temporary Internet Files\Content.IE5\NLTME39Z\MP900402553[1].jpg"/>
          <p:cNvPicPr/>
          <p:nvPr/>
        </p:nvPicPr>
        <p:blipFill>
          <a:blip r:embed="rId1"/>
          <a:stretch/>
        </p:blipFill>
        <p:spPr>
          <a:xfrm>
            <a:off x="5969160" y="507204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344520" y="21924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A good place to start is with a CONTEXTUAL UNDERSTANDING, and a connection to “fair shares”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3520" y="-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116676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914400" y="129528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Sayde has ordered 2 pizzas to share between 3 people.  How much pizza can each person have?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71" name="Picture 3" descr="C:\Users\vonda\AppData\Local\Microsoft\Windows\Temporary Internet Files\Content.IE5\NLTME39Z\MP900422229[1].jpg"/>
          <p:cNvPicPr/>
          <p:nvPr/>
        </p:nvPicPr>
        <p:blipFill>
          <a:blip r:embed="rId1"/>
          <a:stretch/>
        </p:blipFill>
        <p:spPr>
          <a:xfrm>
            <a:off x="3581280" y="4572000"/>
            <a:ext cx="1600200" cy="1154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vonda\AppData\Local\Microsoft\Windows\Temporary Internet Files\Content.IE5\0KW1KENN\MC900088950[1].wmf"/>
          <p:cNvPicPr/>
          <p:nvPr/>
        </p:nvPicPr>
        <p:blipFill>
          <a:blip r:embed="rId2"/>
          <a:stretch/>
        </p:blipFill>
        <p:spPr>
          <a:xfrm>
            <a:off x="5562720" y="3276720"/>
            <a:ext cx="2739960" cy="1841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22860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More “fair shares”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7360" y="576000"/>
            <a:ext cx="84470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News Gothic MT"/>
              </a:rPr>
              <a:t>Think about modeling this problem with Fraction Circles/Square…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515880" y="6335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907920" y="1438200"/>
            <a:ext cx="7944120" cy="4035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vonda\AppData\Local\Microsoft\Windows\Temporary Internet Files\Content.IE5\0KW1KENN\MC900441775[1].png"/>
          <p:cNvPicPr/>
          <p:nvPr/>
        </p:nvPicPr>
        <p:blipFill>
          <a:blip r:embed="rId2"/>
          <a:stretch/>
        </p:blipFill>
        <p:spPr>
          <a:xfrm>
            <a:off x="6381720" y="466416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2520" y="232920"/>
            <a:ext cx="80611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How might students model the problem on the handout?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515880" y="6335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7944120" cy="1756080"/>
          </a:xfrm>
          <a:prstGeom prst="rect">
            <a:avLst/>
          </a:prstGeom>
          <a:ln w="0">
            <a:noFill/>
          </a:ln>
        </p:spPr>
      </p:pic>
      <p:sp>
        <p:nvSpPr>
          <p:cNvPr id="281" name="Oval 5"/>
          <p:cNvSpPr/>
          <p:nvPr/>
        </p:nvSpPr>
        <p:spPr>
          <a:xfrm>
            <a:off x="1389240" y="276552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6918480" y="273060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5573880" y="273852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2778120" y="276552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5" name="Oval 13"/>
          <p:cNvSpPr/>
          <p:nvPr/>
        </p:nvSpPr>
        <p:spPr>
          <a:xfrm>
            <a:off x="4189320" y="276552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286" name="Group 2"/>
          <p:cNvGrpSpPr/>
          <p:nvPr/>
        </p:nvGrpSpPr>
        <p:grpSpPr>
          <a:xfrm>
            <a:off x="1371600" y="3981600"/>
            <a:ext cx="6443640" cy="949320"/>
            <a:chOff x="1371600" y="3981600"/>
            <a:chExt cx="6443640" cy="949320"/>
          </a:xfrm>
        </p:grpSpPr>
        <p:sp>
          <p:nvSpPr>
            <p:cNvPr id="287" name="Oval 14"/>
            <p:cNvSpPr/>
            <p:nvPr/>
          </p:nvSpPr>
          <p:spPr>
            <a:xfrm>
              <a:off x="1371600" y="401652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6900840" y="398160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5556240" y="3987720"/>
              <a:ext cx="914400" cy="916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2760480" y="401652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4172040" y="401652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292" name="Group 20"/>
          <p:cNvGrpSpPr/>
          <p:nvPr/>
        </p:nvGrpSpPr>
        <p:grpSpPr>
          <a:xfrm>
            <a:off x="1371600" y="5160960"/>
            <a:ext cx="6443640" cy="949320"/>
            <a:chOff x="1371600" y="5160960"/>
            <a:chExt cx="6443640" cy="949320"/>
          </a:xfrm>
        </p:grpSpPr>
        <p:sp>
          <p:nvSpPr>
            <p:cNvPr id="293" name="Oval 21"/>
            <p:cNvSpPr/>
            <p:nvPr/>
          </p:nvSpPr>
          <p:spPr>
            <a:xfrm>
              <a:off x="1371600" y="519588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6900840" y="516096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5" name="Oval 23"/>
            <p:cNvSpPr/>
            <p:nvPr/>
          </p:nvSpPr>
          <p:spPr>
            <a:xfrm>
              <a:off x="5556240" y="5167080"/>
              <a:ext cx="914400" cy="916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6" name="Oval 24"/>
            <p:cNvSpPr/>
            <p:nvPr/>
          </p:nvSpPr>
          <p:spPr>
            <a:xfrm>
              <a:off x="2760480" y="519588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97" name="Oval 25"/>
            <p:cNvSpPr/>
            <p:nvPr/>
          </p:nvSpPr>
          <p:spPr>
            <a:xfrm>
              <a:off x="4172040" y="519588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614520" y="504720"/>
            <a:ext cx="5886360" cy="441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99" name="TextBox 2"/>
          <p:cNvSpPr/>
          <p:nvPr/>
        </p:nvSpPr>
        <p:spPr>
          <a:xfrm>
            <a:off x="6799320" y="682560"/>
            <a:ext cx="2100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Some students use the circles to represent how much each girl ate.  Then, realizing how many fourths make 1 whole pizza, they count up all the complete pizzas</a:t>
            </a: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6670800" y="63612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01" name="TextBox 4" descr=""/>
          <p:cNvPicPr/>
          <p:nvPr/>
        </p:nvPicPr>
        <p:blipFill>
          <a:blip r:embed="rId2"/>
          <a:stretch/>
        </p:blipFill>
        <p:spPr>
          <a:xfrm>
            <a:off x="646200" y="5162400"/>
            <a:ext cx="6151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2"/>
          <p:cNvSpPr/>
          <p:nvPr/>
        </p:nvSpPr>
        <p:spPr>
          <a:xfrm>
            <a:off x="996840" y="1133640"/>
            <a:ext cx="2743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Some students may use the circles to represent pizzas which have been cut into fourths.   Then, they counted the people/pieces. 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rcRect l="0" t="0" r="0" b="33062"/>
          <a:stretch/>
        </p:blipFill>
        <p:spPr>
          <a:xfrm>
            <a:off x="3927600" y="1130400"/>
            <a:ext cx="4653000" cy="4152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04" name="TextBox 7"/>
          <p:cNvSpPr/>
          <p:nvPr/>
        </p:nvSpPr>
        <p:spPr>
          <a:xfrm>
            <a:off x="515880" y="6335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2"/>
          <p:cNvSpPr/>
          <p:nvPr/>
        </p:nvSpPr>
        <p:spPr>
          <a:xfrm>
            <a:off x="863640" y="988920"/>
            <a:ext cx="31543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Some students see that 4 girls can eat 1 whole pizza.  So 12 girls divided by 4 per pizza would be 3 pizzas.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News Gothic MT"/>
              </a:rPr>
              <a:t>12 ÷ 4 = 3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515880" y="6335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4481640" y="714240"/>
            <a:ext cx="37130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-3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News Gothic MT"/>
              </a:rPr>
              <a:t>Model the problem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355680" y="63882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476280" y="987480"/>
            <a:ext cx="8528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9400" y="488520"/>
            <a:ext cx="8410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News Gothic MT"/>
              </a:rPr>
              <a:t>Model the Problem with a model of your choice.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3976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13" name="Rectangle 4" descr=""/>
          <p:cNvPicPr/>
          <p:nvPr/>
        </p:nvPicPr>
        <p:blipFill>
          <a:blip r:embed="rId1"/>
          <a:stretch/>
        </p:blipFill>
        <p:spPr>
          <a:xfrm>
            <a:off x="2468520" y="1852560"/>
            <a:ext cx="6351480" cy="2865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vonda\AppData\Local\Microsoft\Windows\Temporary Internet Files\Content.IE5\00VWPAY7\MC900298673[1].wmf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601560" y="1852560"/>
            <a:ext cx="2090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icture 6"/>
          <p:cNvSpPr/>
          <p:nvPr/>
        </p:nvSpPr>
        <p:spPr>
          <a:xfrm>
            <a:off x="228600" y="5791320"/>
            <a:ext cx="10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417600" y="828720"/>
            <a:ext cx="853740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lnSpc>
                <a:spcPct val="100000"/>
              </a:lnSpc>
              <a:buClr>
                <a:srgbClr val="000000"/>
              </a:buClr>
              <a:buFont typeface="Chalkboard"/>
              <a:buChar char="•"/>
              <a:tabLst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that all students </a:t>
            </a:r>
            <a:r>
              <a:rPr b="1" i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 learn math, and that if children </a:t>
            </a:r>
            <a:r>
              <a:rPr b="1" i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like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 math and </a:t>
            </a:r>
            <a:r>
              <a:rPr b="1" i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feel successful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at math -- they will learn math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indent="284040">
              <a:lnSpc>
                <a:spcPct val="100000"/>
              </a:lnSpc>
              <a:buClr>
                <a:srgbClr val="000000"/>
              </a:buClr>
              <a:buFont typeface="Chalkboard"/>
              <a:buChar char="•"/>
              <a:tabLst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  <a:p>
            <a:pPr indent="284040">
              <a:lnSpc>
                <a:spcPct val="100000"/>
              </a:lnSpc>
              <a:buClr>
                <a:srgbClr val="000000"/>
              </a:buClr>
              <a:buFont typeface="Chalkboard"/>
              <a:buChar char="•"/>
              <a:tabLst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there are 3 stages that children go through when learning math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Stage 1: Using Manipulativ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Stage 2: Developing a Mental Image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  <a:ea typeface="MS PGothic"/>
              </a:rPr>
              <a:t>Stage 3: Using Symbol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indent="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at the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MS PGothic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in math instruction is as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mportant as the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MS PGothic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, if not more so…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2745000" y="201600"/>
            <a:ext cx="32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We believe……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22200" y="6122880"/>
            <a:ext cx="484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News Gothic MT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  MAKING MATH MAGIC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0" t="0" r="0" b="8370"/>
          <a:stretch/>
        </p:blipFill>
        <p:spPr>
          <a:xfrm>
            <a:off x="7121520" y="4168800"/>
            <a:ext cx="16383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-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441360" y="624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609480" y="457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One perspective:  If Ted is running ¼ of a mile each day…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914400" y="14493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Thinking out loud…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Ted runs ¼ for 6 days so ….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88920" y="3578400"/>
            <a:ext cx="90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OR, Thinking out loud…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It takes Ted 4 days to run 1 mile so….. 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3219480" y="2774880"/>
            <a:ext cx="30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News Gothic MT"/>
              </a:rPr>
              <a:t>¼ x 6 </a:t>
            </a:r>
            <a:endParaRPr b="0" lang="en-US" sz="4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3413160" y="5195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News Gothic MT"/>
              </a:rPr>
              <a:t>6 ÷ 4</a:t>
            </a:r>
            <a:endParaRPr b="0" lang="en-US" sz="4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66280" y="27432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News Gothic MT"/>
              </a:rPr>
              <a:t>Partner Problems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214200" y="62974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76240" y="1785600"/>
            <a:ext cx="698832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12 x ¼        and         12 ÷ 4 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15 x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  <a:ea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  <a:ea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and         15÷3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alibri"/>
              </a:rPr>
              <a:t>¼ x 6          and          6 ÷ 4  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-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255600" y="6338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9480" y="4572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Ted needs to run a total of 10 miles to raise money for a charity.  If he runs ½ of a mile each day, how many days will it take him to run the 10 miles?  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66720" y="3021120"/>
            <a:ext cx="512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News Gothic MT"/>
              </a:rPr>
              <a:t>Model and Solve this problem in at least 2 different ways…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29" name="Picture 3" descr="C:\Users\vonda\AppData\Local\Microsoft\Windows\Temporary Internet Files\Content.IE5\00VWPAY7\MC900298673[1].wmf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997600" y="2828880"/>
            <a:ext cx="2090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3680" y="3045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News Gothic MT"/>
              </a:rPr>
              <a:t>Partner Problems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8268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332" name="Rectangle 5" descr=""/>
          <p:cNvPicPr/>
          <p:nvPr/>
        </p:nvPicPr>
        <p:blipFill>
          <a:blip r:embed="rId1"/>
          <a:stretch/>
        </p:blipFill>
        <p:spPr>
          <a:xfrm>
            <a:off x="1841400" y="1962000"/>
            <a:ext cx="5997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What is the relationship between multiplying and dividing?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568520"/>
            <a:ext cx="848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48760" indent="-2487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Multiplying by any number is the same as dividing by it’s reciprocal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248760" indent="-2487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and ….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248760" indent="-2487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News Gothic MT"/>
              </a:rPr>
              <a:t>Dividing by any number is the same as multiplying by it’s reciprocal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248760" indent="-24876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602400" y="6335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2c7c9f"/>
                </a:solidFill>
                <a:latin typeface="News Gothic MT"/>
              </a:rPr>
              <a:t>What happens when we throw in some mixed numbers?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337" name="Content Placeholder 2" descr=""/>
          <p:cNvPicPr/>
          <p:nvPr/>
        </p:nvPicPr>
        <p:blipFill>
          <a:blip r:embed="rId1"/>
          <a:stretch/>
        </p:blipFill>
        <p:spPr>
          <a:xfrm>
            <a:off x="615960" y="1731960"/>
            <a:ext cx="8528040" cy="38336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1442880" y="5564160"/>
            <a:ext cx="67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Model and Solve this problem.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38268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2c7c9f"/>
                </a:solidFill>
                <a:latin typeface="News Gothic MT"/>
              </a:rPr>
              <a:t>What happens when we throw in some mixed numbers?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341" name="Content Placeholder 2" descr=""/>
          <p:cNvPicPr/>
          <p:nvPr/>
        </p:nvPicPr>
        <p:blipFill>
          <a:blip r:embed="rId1"/>
          <a:stretch/>
        </p:blipFill>
        <p:spPr>
          <a:xfrm>
            <a:off x="542880" y="1731960"/>
            <a:ext cx="8528040" cy="383364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"/>
          <p:cNvSpPr/>
          <p:nvPr/>
        </p:nvSpPr>
        <p:spPr>
          <a:xfrm>
            <a:off x="1442880" y="5564160"/>
            <a:ext cx="67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Model and Solve this problem.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38268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2c7c9f"/>
                </a:solidFill>
                <a:latin typeface="News Gothic MT"/>
              </a:rPr>
              <a:t>What happens when we throw in some mixed numbers?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345" name="Content Placeholder 2" descr=""/>
          <p:cNvPicPr/>
          <p:nvPr/>
        </p:nvPicPr>
        <p:blipFill>
          <a:blip r:embed="rId1"/>
          <a:stretch/>
        </p:blipFill>
        <p:spPr>
          <a:xfrm>
            <a:off x="530280" y="1566720"/>
            <a:ext cx="8528040" cy="3834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1442880" y="5564160"/>
            <a:ext cx="67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Model and Solve this problem.</a:t>
            </a:r>
            <a:endParaRPr b="0" lang="en-US" sz="3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382680" y="63104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To understand Fraction Computation, students need opportunities to…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32920" indent="-23292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Compose and decompose fractions around unit fractions with a variety of models and symbolic representations (‘more than 1 way!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32920" indent="-23292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See problems in context (‘more than pizzas!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32920" indent="-23292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See a need for common names/units (‘more than rules with common denominators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32920" indent="-23292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32920" indent="-23292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To </a:t>
            </a:r>
            <a:r>
              <a:rPr b="1" i="1" lang="en-US" sz="3200" spc="-1" strike="noStrike">
                <a:solidFill>
                  <a:srgbClr val="2c7c9f"/>
                </a:solidFill>
                <a:latin typeface="News Gothic MT"/>
              </a:rPr>
              <a:t>understand</a:t>
            </a:r>
            <a:r>
              <a:rPr b="1" lang="en-US" sz="3200" spc="-1" strike="noStrike">
                <a:solidFill>
                  <a:srgbClr val="7030a0"/>
                </a:solidFill>
                <a:latin typeface="News Gothic MT"/>
              </a:rPr>
              <a:t> Fraction Computation, students need opportunities to…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1800" y="1698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ee the relationship between multiplying and divid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del solutions to computation problems for sense-making and justification (‘more than a proces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-262080">
              <a:spcBef>
                <a:spcPts val="15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1600" y="89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Keeping these stages in mind, in order to improve understanding and retention….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1600" y="2033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News Gothic MT"/>
              </a:rPr>
              <a:t>Students need to: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2" marL="725400" indent="-210960">
              <a:spcBef>
                <a:spcPts val="45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News Gothic MT"/>
              </a:rPr>
              <a:t>Build it! 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Concret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725400" indent="-210960">
              <a:spcBef>
                <a:spcPts val="45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News Gothic MT"/>
              </a:rPr>
              <a:t>Draw it! 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Mental Imag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725400" indent="-210960">
              <a:spcBef>
                <a:spcPts val="45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News Gothic MT"/>
              </a:rPr>
              <a:t>Write it!  </a:t>
            </a: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Symbol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News Gothic MT"/>
              </a:rPr>
              <a:t>                             </a:t>
            </a:r>
            <a:r>
              <a:rPr b="1" lang="en-US" sz="4400" spc="-1" strike="noStrike">
                <a:solidFill>
                  <a:srgbClr val="7030a0"/>
                </a:solidFill>
                <a:latin typeface="News Gothic MT"/>
              </a:rPr>
              <a:t>SAY IT </a:t>
            </a:r>
            <a:r>
              <a:rPr b="1" lang="en-US" sz="1800" spc="-1" strike="noStrike">
                <a:solidFill>
                  <a:srgbClr val="000000"/>
                </a:solidFill>
                <a:latin typeface="News Gothic MT"/>
              </a:rPr>
              <a:t>throughou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262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6" descr="C:\Users\Rhonda\AppData\Local\Microsoft\Windows\Temporary Internet Files\Content.IE5\4HQ9UYW8\MC900232282[1].wmf"/>
          <p:cNvPicPr/>
          <p:nvPr/>
        </p:nvPicPr>
        <p:blipFill>
          <a:blip r:embed="rId1"/>
          <a:stretch/>
        </p:blipFill>
        <p:spPr>
          <a:xfrm rot="20149800">
            <a:off x="-17280" y="4795560"/>
            <a:ext cx="1822680" cy="112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Rhonda\AppData\Local\Microsoft\Windows\Temporary Internet Files\Content.IE5\7ZS66OUU\MC900012998[1].wmf"/>
          <p:cNvPicPr/>
          <p:nvPr/>
        </p:nvPicPr>
        <p:blipFill>
          <a:blip r:embed="rId2"/>
          <a:stretch/>
        </p:blipFill>
        <p:spPr>
          <a:xfrm>
            <a:off x="6095880" y="200808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Users\Rhonda\AppData\Local\Microsoft\Windows\Temporary Internet Files\Content.IE5\7ZS66OUU\MC900237283[1].wmf"/>
          <p:cNvPicPr/>
          <p:nvPr/>
        </p:nvPicPr>
        <p:blipFill>
          <a:blip r:embed="rId3"/>
          <a:srcRect l="0" t="0" r="0" b="26704"/>
          <a:stretch/>
        </p:blipFill>
        <p:spPr>
          <a:xfrm>
            <a:off x="6058080" y="4073400"/>
            <a:ext cx="2509560" cy="1447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279000" y="624204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News Gothic MT"/>
                <a:ea typeface="MS PGothic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  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Standards for Mathematical Practice</a:t>
            </a:r>
            <a:r>
              <a:rPr b="1" lang="en-US" sz="3400" spc="-1" strike="noStrike">
                <a:solidFill>
                  <a:srgbClr val="2c7c9f"/>
                </a:solidFill>
                <a:latin typeface="News Gothic MT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6160" y="10918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Make sense of problems and persevere in solving th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Reason abstractly and quantitatively (contextualize and decontextualiz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Construct viable arguments and critique the reasoning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   </a:t>
            </a: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of oth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Model with mathematic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Use appropriate tools strategicall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Attend to preci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Look for and make use of stru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Aft>
                <a:spcPts val="601"/>
              </a:spcAft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News Gothic MT"/>
              </a:rPr>
              <a:t>Look for and express regularity in repeated reason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483480" indent="-236880">
              <a:spcBef>
                <a:spcPts val="45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74920" y="47916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News Gothic MT"/>
              </a:rPr>
              <a:t>        </a:t>
            </a:r>
            <a:r>
              <a:rPr b="1" lang="en-US" sz="4400" spc="-1" strike="noStrike">
                <a:solidFill>
                  <a:srgbClr val="595959"/>
                </a:solidFill>
                <a:latin typeface="News Gothic MT"/>
              </a:rPr>
              <a:t>Think about how many Standards for Mathematical Practice are addressed if we </a:t>
            </a:r>
            <a:r>
              <a:rPr b="1" i="1" lang="en-US" sz="5400" spc="-1" strike="noStrike">
                <a:solidFill>
                  <a:srgbClr val="7030a0"/>
                </a:solidFill>
                <a:latin typeface="Tekton Pro Cond"/>
              </a:rPr>
              <a:t>engage</a:t>
            </a:r>
            <a:r>
              <a:rPr b="1" lang="en-US" sz="4400" spc="-1" strike="noStrike">
                <a:solidFill>
                  <a:srgbClr val="595959"/>
                </a:solidFill>
                <a:latin typeface="News Gothic MT"/>
              </a:rPr>
              <a:t>  our students and </a:t>
            </a:r>
            <a:r>
              <a:rPr b="1" i="1" lang="en-US" sz="5400" spc="-1" strike="noStrike">
                <a:solidFill>
                  <a:srgbClr val="7030a0"/>
                </a:solidFill>
                <a:latin typeface="Tekton Pro Cond"/>
              </a:rPr>
              <a:t>conceptually</a:t>
            </a:r>
            <a:r>
              <a:rPr b="1" lang="en-US" sz="4400" spc="-1" strike="noStrike">
                <a:solidFill>
                  <a:srgbClr val="7030a0"/>
                </a:solidFill>
                <a:latin typeface="Tekton Pro Cond"/>
              </a:rPr>
              <a:t>  </a:t>
            </a:r>
            <a:r>
              <a:rPr b="1" lang="en-US" sz="4400" spc="-1" strike="noStrike">
                <a:solidFill>
                  <a:srgbClr val="595959"/>
                </a:solidFill>
                <a:latin typeface="News Gothic MT"/>
              </a:rPr>
              <a:t>teach </a:t>
            </a:r>
            <a:r>
              <a:rPr b="1" lang="en-US" sz="4400" spc="-1" strike="noStrike">
                <a:solidFill>
                  <a:srgbClr val="7030a0"/>
                </a:solidFill>
                <a:latin typeface="News Gothic MT"/>
              </a:rPr>
              <a:t>OPERATIONS WITH FRACTIONS!!!</a:t>
            </a:r>
            <a:endParaRPr b="0" lang="en-US" sz="4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14920" y="63514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News Gothic MT"/>
                <a:ea typeface="MS PGothic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  MAKING MATH MAGI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2262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96840" y="5095800"/>
            <a:ext cx="4146840" cy="135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rcRect l="5520" t="8016" r="0" b="0"/>
          <a:stretch/>
        </p:blipFill>
        <p:spPr>
          <a:xfrm>
            <a:off x="528480" y="236520"/>
            <a:ext cx="1970280" cy="177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rcRect l="19658" t="27732" r="25602" b="36693"/>
          <a:stretch/>
        </p:blipFill>
        <p:spPr>
          <a:xfrm>
            <a:off x="6073920" y="4700520"/>
            <a:ext cx="2382840" cy="118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4816440" y="369720"/>
            <a:ext cx="3917880" cy="391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080" y="3955680"/>
            <a:ext cx="783756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c7c9f"/>
                </a:solidFill>
                <a:latin typeface="News Gothic MT"/>
              </a:rPr>
              <a:t>ADDING AND SUBTRACTING FRACTIONS</a:t>
            </a:r>
            <a:br>
              <a:rPr sz="5400"/>
            </a:br>
            <a:endParaRPr b="0" lang="en-US" sz="54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1720" y="368280"/>
            <a:ext cx="76932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1600" indent="-20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News Gothic MT"/>
              </a:rPr>
              <a:t>   </a:t>
            </a:r>
            <a:r>
              <a:rPr b="1" lang="en-US" sz="4000" spc="-1" strike="noStrike">
                <a:solidFill>
                  <a:srgbClr val="595959"/>
                </a:solidFill>
                <a:latin typeface="News Gothic MT"/>
              </a:rPr>
              <a:t>When we think about adding and subtracting fractions, what are some prior conceptual understandings that our students must have in order to compute with fractions (not the rules, the meaning-making)?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201600" indent="-20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201600" indent="-20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101520" y="6343560"/>
            <a:ext cx="22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aking Math Magic</a:t>
            </a:r>
            <a:endParaRPr b="0" lang="en-US" sz="15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29" name="Picture 5" descr="C:\Users\Rhonda\AppData\Local\Microsoft\Windows\Temporary Internet Files\Content.IE5\7ZS66OUU\MC900084348[1].wmf"/>
          <p:cNvPicPr/>
          <p:nvPr/>
        </p:nvPicPr>
        <p:blipFill>
          <a:blip r:embed="rId1"/>
          <a:stretch/>
        </p:blipFill>
        <p:spPr>
          <a:xfrm>
            <a:off x="6594480" y="4197240"/>
            <a:ext cx="21891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8:20:36Z</dcterms:created>
  <dc:creator>Rhonda Allen Burns</dc:creator>
  <dc:description/>
  <dc:language>en-US</dc:language>
  <cp:lastModifiedBy>Rhonda Allen Burns</cp:lastModifiedBy>
  <dcterms:modified xsi:type="dcterms:W3CDTF">2015-03-10T16:57:19Z</dcterms:modified>
  <cp:revision>45</cp:revision>
  <dc:subject/>
  <dc:title>PowerPoint Presentation</dc:title>
</cp:coreProperties>
</file>